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FA28-E5AA-44F4-8D84-32238E8A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35D8-78DE-4A30-93D4-400646D1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86AB-7983-4E9D-BC50-108866E3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9FC8-6534-4E84-8528-58CE9E55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0427-649F-436B-8F17-D69AC6DD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C39A-3D34-44AC-8570-9D02BA94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B0D1-6746-4CCA-B50E-248754A0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D82F-9C9E-48A4-8458-BA668112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CBFA-6FBB-4834-98CD-6806587D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4C8-CCD8-454F-A9DE-6A349B86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CBF-184C-4570-8965-0BF7CECD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B228-C37C-47EC-A230-2A51B6B1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33D5-2496-4A66-9F55-A122317435E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980640"/>
            <a:ext cx="442764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179280" y="1773360"/>
            <a:ext cx="39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10:06:01Z</dcterms:modified>
  <cp:revision>685</cp:revision>
  <dc:subject/>
  <dc:title>Diapositiva 1</dc:title>
</cp:coreProperties>
</file>